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378C-6076-43AB-8DDE-C8131C4B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8128-7639-421F-ABC9-193FA2E03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112-E9B1-4A75-A458-49E5489DB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279-1A72-4F01-90B6-FBF4DFBF9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C22-284B-4DDE-B848-55C68EBBE0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18E-F6CA-4317-9A1B-F10E6B52D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27B-CE5B-4EAF-B057-A812342F8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5C1-765B-46E3-AE5A-CAD72768CA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4B0D-B6C6-47D0-AEE2-CD14325C8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EF33-31F0-4044-84FC-5662731A7C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864-58F4-4A96-BCE2-F5B0ED92B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5FB-0E14-44F1-B140-31AC4B906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5F7-D25C-4B03-A851-BBFD760FE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0323-2A24-40C5-90BA-6F51B2AE15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EAD4-92EE-4541-B7AB-87F45CF3D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35B-545E-440D-B930-A70D81110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3F92-B557-483C-9CA8-F85E19DE4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B35-EDF3-45F7-821C-EBB1AA7782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885-0545-4A64-8010-5C1C59B23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A15-B030-4F6C-A636-C9BBBF9FC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CC5-17CB-441F-BA5D-0BDEB4245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4E34-1C8C-4448-8686-84CE698C2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A92A-8192-4672-A5D8-14E1987097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5E3-D24D-47F0-944E-218A85934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829-ABA5-4F15-8BFA-B361A7F15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F61-3955-47BA-8CF7-1242F4600B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9F28-8954-4520-A663-ED1703E47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880-CCA8-4A10-90A5-CACABF53A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99F-4D02-4750-969E-987258D72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252-66D8-4FBB-A4C9-93746BE1AA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F1F-5A80-47CA-8DBD-7C375DCD9B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9B7-8C2C-44F3-9503-F9D4F579C5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036-3B9D-4628-BC13-11C7A59808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8253-6229-4A75-B004-5C73438A70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27E-43B0-4EEB-AD07-9F62EFA2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94D-3861-4A17-ACA7-9A6C3E0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518-F677-4DA3-A9AA-1B07ADFF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14D-D5B2-48B1-B13B-AA46E9AE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A5D9-1114-4676-97CD-748D0192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8DF1-A7CF-4535-B82D-DB79ABA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67D-0E91-47EC-903A-DF21DF94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7A1-351C-4E97-91E7-6A2964F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079-6ED8-4B40-91C2-0AEC7E02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9664-8C63-4321-BC63-B7C2715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D21-ACF3-4EE8-A6FE-4C101DD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F79-749A-4099-99C3-D012E84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EE0-6813-4752-B8CE-B84219C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74D1-5239-451F-A667-E31F3EB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86EE-7ACA-4BD8-802C-08FC612F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F8F-1A5F-4EEC-B896-2D26ABD5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69E-7827-40EE-9E84-BC0BB47A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0B6-DEE5-499D-A8A5-194D4A0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0B2-5F16-47A2-98D6-82997D4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A67-AC52-4D7C-9E8F-B72DCEAB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E51-C982-4D2B-A312-FD687AA1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CC-7FF2-4544-857C-88BBDF7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23D-6693-456E-9793-34F3984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AEE-142D-4940-B82D-604AE6B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6E23-2086-4BA5-BED9-0F803F149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6CD5-0683-4FD8-AF9A-D4EEC2C8CA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etry Ter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19160" y="15235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of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371-2AE5-49FE-B90E-EA74B566B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92E-2A5D-4652-B594-3865FDEF2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urative Langua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not meant to interpret li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dissimilar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vivid im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phors, similes, person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y black eyes are coals burn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ke a low, full jungle mo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the darkness of be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8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9E6E-9510-4176-8047-62413BA06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Metapho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of spee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ng spoken of as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ome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Poetry is a riv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ky is a patchwork quilt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74C-B7E4-4568-8D2B-CAAC7631B4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Onomatopoe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imitate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whirr, thud, sizzle, his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z, bang, 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oe’s “Bell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bells, bells, bells, bel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ing, chiming, jang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ling, clang, clash, ro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4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99E-2E14-45F6-80A6-C77E01AB13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Simi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of speech,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mp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unlike id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rning sun is like a red rubber ball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dry up, like a raisin in the sun?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542-706D-40DB-905D-D839A84453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Image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520" y="12952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or figurative 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word pictures (ima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sight, sound, taste, touch, smell, or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ghostly marching on pav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d-tanned ski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se black pool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C4B-84D0-4A35-9E5A-FD5A3D53C7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Personific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320" y="11430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ative 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human subject given hum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The wind danced in the tre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ffodils “tossing their heads in sprightly dan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m “tosses her hair, throws back her head, and closes her ey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29B5-BD29-4325-8487-666C8674E5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Extended Metapho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bout a subject as if it we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hing el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several lines long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r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caged bird” beco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who is not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ken-winged bird that cannot fly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omes life without a d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0758-9A47-4318-B825-BB9F86A97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Sensory Words/La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that appeals to the sens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details related to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feeling the sun beat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 on one’s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9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1BB8-1E9D-4ADD-83E8-714D0EA4B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Assonanc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vowel sounds followed by different consonants in 2 or more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weak and wear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ld of silen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 rolling…a ston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924-6B63-4043-B83A-8B2D2693E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Alliter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initial conson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zes words, imitates sounds, creates musical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I grew like a thin, stubb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d, watering mysel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ever way I coul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upon a midnight dreary, while 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ndered weak and wear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ir breeze blew, the white f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w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CDE-4D27-4D34-8494-3860147F61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lements: Stanz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division of lines in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a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d by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lets: two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trains: four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C62-7A2A-43C2-BF8B-98B572625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hym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sounds at end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rhyme vs. internal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t rhyme vs. slant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upon a midnight dreary, while I ponder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 and wear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ns sing before they die—’twere no bad 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certain persons die before they sing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0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3F58-A3DA-4B2D-AEA8-C298A47C1D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epeti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21896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any language element – a sound, word, phrase, clause, or  sentence – more than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musical effects and for emph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iteration, assonance, rhyme, rhythm repeat sou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rain repeats line/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liked winning…You liked writing…You liked all the faces…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6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541-08F1-41F7-9CD7-23CF33BEC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efrai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ly repeated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 group of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music: a choru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.g.: Quoth the raven, “Nevermore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cavity, Macavity, there’s no on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ke Macavity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17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C209-3A75-4D92-B4EA-5018C68B74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hyth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 of beats or str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oems have a specific pattern 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young lady named br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speed was far faster than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 and free verse use natu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ythms of everyday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FE6-6B16-4726-B4E6-402EBA175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Fixed For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zas have repeated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l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in each stanza may rhy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sound alik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 and rhythm of stanza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syllables in line may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043-880D-479F-A662-FD896CE08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Narrow"/>
              </a:rPr>
              <a:t>Forms of Poetry: Free Form or Free Verse</a:t>
            </a:r>
            <a:endParaRPr b="1" lang="en-US" sz="41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structure or patter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may not rhy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s do not match in number of syllables, length, or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Sonne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191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-line lyric po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atterns of rhyme,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in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, or Shakespear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 quatrains + coup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, or Petrarch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ctave + sest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0C12-6FC8-4655-9317-79BB637BA6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8F2-92EA-41B3-9A95-ACCC608710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Haiku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-line verse for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st and 3rd lines: 5 syllables (?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nd line: 7 syllables (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gle vivid emo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from n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.g.: Bash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furu-ike ya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An old pond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kawazu tobi-komu     A frog jumps in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izu-no-oto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The sound of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77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77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354E-5A10-43E9-A226-29DBCBC9D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Lyric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al verse: uses rhythm, alliteration, and rhy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 and feeling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g with lyre in ancient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735-2569-4AC7-8470-FABE02918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Narrative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s a story in 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n epic or a bal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ey at the Bat”: humorous narrative po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e’s “Raven”: serious narrative po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BE5-78BB-425F-8D82-2DB28A01EB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peake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ary voice assumed by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not identified by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person, animal, thing,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Dickinson as dead per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ause I could not stop fo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ath—He kindly stopped for m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5659-958D-43E3-8C05-A5827C0D51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Balla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like poem that tells a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dventure and ro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ritten in 4 to 6-line stanzas, regular rhythms and rhyme schemes, often a ref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380-5540-4DBC-8B2C-49453D399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Limeri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160" y="15235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orous, rhyming, five-line po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meter and 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Edward L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n Old Person whose habi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ed him to feed upon rabbit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e'd eaten eighte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urned perfectly gre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on which he relinquished those ha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5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5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8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F2E-BA8E-49AB-9BF1-8098836680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Concrete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m with shape that suggests 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 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8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1778-4A55-40EE-BBEE-7044467CF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Dramatic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techniques of dra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 tells a s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’s own thoughts/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oe’s “Raven” uses dram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monologue: 1 pers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s to silent liste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4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4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572C-8C8C-4E11-A5F0-09A28BA87E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’s attitud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dience and su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formal or in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ous, playful, pomp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itter, ironic, pers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mpathetic, friend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ieving, sarcastic, har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CCFB-E243-4876-BFF8-E2B30E9FB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llu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to well-known person, place, event, literary work, or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o the Bible or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The Magi . . . were wise men . . . who brought gifts to the Babe in the mang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7796-B916-44E3-A162-97257920C9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not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meanings associated with a word (in addition to dictionary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caged bird” = sad, trapp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iously owned vehicle” = used c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cation spot” = l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e: fragrance, smell, sten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0D7-EEAE-4E95-89CF-40410C74A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not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tionary definition of  a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of other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nnot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l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otes inland body of 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notes vacation or fishing sp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76C-1C1F-4F8B-B3BD-3E3D59A28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aradox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ment that seems contradictory but may be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prising, catches reade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Youth is wasted on the you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re things change, 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they stay the same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0C1-5602-488C-8780-5DBE304B2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ymbo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has own meaning but al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abstract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s for some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ag symbolizes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rlet ibis symbolizes Doodle and other people who strugg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anne</dc:creator>
  <dc:description/>
  <dc:language>en-US</dc:language>
  <cp:lastModifiedBy>Jeanne</cp:lastModifiedBy>
  <dcterms:modified xsi:type="dcterms:W3CDTF">2011-11-13T20:12:49Z</dcterms:modified>
  <cp:revision>12</cp:revision>
  <dc:subject/>
  <dc:title>PowerPoint Presentation</dc:title>
</cp:coreProperties>
</file>